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56FE-5878-4002-930A-077E846AC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8210-4D25-4D57-9545-50C711D4C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13FF-DA04-4023-B08B-B0A8B8D9A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2CA0-14D0-4008-B8BF-16E55486B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6B8B2-11D7-4A60-B2CF-24E157ED4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0460A-8E48-489A-BEB8-6AB190956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7630B-A92F-4235-AE9E-5D01246CD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D01CB-06A2-4C1D-802F-D3C95DE6F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3F67D-71B4-49CD-81B0-EFA42DBCA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20F8A-AE8C-4F88-9523-CCD6684F4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EDC65-ECAB-48B4-96D2-335F6F39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A945-C4EF-4BF1-BD51-16DF890B3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76B03-FAFB-40C3-A6DC-E897FAD6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952FA-FAAB-4179-9010-141EE406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8907E-A65B-40AE-B604-6D1A00BFD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80591-5986-49B1-A558-E0649AFFC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B314E-EBA4-4149-B500-AD5CA8C4E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BED2-3E1F-4A1D-BAB9-0849807F6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5C62-E0BF-4177-9168-E313C1D24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F361-036E-46EC-98B7-7A8C7F2E2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CA0D-A50C-420E-8797-9E379D684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3897-350C-4C79-A5DC-3EF7091D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A6E9-5AC6-4D2C-B666-1A2A6FE2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75B7-B29E-4970-BC6F-58C5F698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25E3D-A61D-44BC-B9F2-BCCDA827EE33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23AFB-5A17-44DA-A9BA-3547021DED8C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2280" y="1371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Picture 2" descr="F:\фото для презентации\10.jpg"/>
          <p:cNvPicPr/>
          <p:nvPr/>
        </p:nvPicPr>
        <p:blipFill>
          <a:blip r:embed="rId1"/>
          <a:stretch/>
        </p:blipFill>
        <p:spPr>
          <a:xfrm>
            <a:off x="0" y="214200"/>
            <a:ext cx="4857840" cy="3886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F:\фото для презентации\12.jpeg"/>
          <p:cNvPicPr/>
          <p:nvPr/>
        </p:nvPicPr>
        <p:blipFill>
          <a:blip r:embed="rId2"/>
          <a:stretch/>
        </p:blipFill>
        <p:spPr>
          <a:xfrm>
            <a:off x="4460760" y="2571840"/>
            <a:ext cx="42865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2" descr="F:\фото для презентации\16451.jpg"/>
          <p:cNvPicPr/>
          <p:nvPr/>
        </p:nvPicPr>
        <p:blipFill>
          <a:blip r:embed="rId1"/>
          <a:stretch/>
        </p:blipFill>
        <p:spPr>
          <a:xfrm>
            <a:off x="214200" y="285840"/>
            <a:ext cx="4238640" cy="4525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F:\фото для презентации\Mugs_metal_handle_1.jpg"/>
          <p:cNvPicPr/>
          <p:nvPr/>
        </p:nvPicPr>
        <p:blipFill>
          <a:blip r:embed="rId2"/>
          <a:stretch/>
        </p:blipFill>
        <p:spPr>
          <a:xfrm>
            <a:off x="4429080" y="3154320"/>
            <a:ext cx="471492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2" descr="F:\фото для презентации\p-52676.png"/>
          <p:cNvPicPr/>
          <p:nvPr/>
        </p:nvPicPr>
        <p:blipFill>
          <a:blip r:embed="rId1"/>
          <a:stretch/>
        </p:blipFill>
        <p:spPr>
          <a:xfrm>
            <a:off x="0" y="357120"/>
            <a:ext cx="4219560" cy="3800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F:\фото для презентации\image.jpeg"/>
          <p:cNvPicPr/>
          <p:nvPr/>
        </p:nvPicPr>
        <p:blipFill>
          <a:blip r:embed="rId2"/>
          <a:stretch/>
        </p:blipFill>
        <p:spPr>
          <a:xfrm>
            <a:off x="4572000" y="2786040"/>
            <a:ext cx="380988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2" descr="F:\фото для презентации\viking-spoon.jpg"/>
          <p:cNvPicPr/>
          <p:nvPr/>
        </p:nvPicPr>
        <p:blipFill>
          <a:blip r:embed="rId1"/>
          <a:stretch/>
        </p:blipFill>
        <p:spPr>
          <a:xfrm>
            <a:off x="357120" y="500040"/>
            <a:ext cx="4762440" cy="3200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F:\фото для презентации\35165830-lozka.jpeg"/>
          <p:cNvPicPr/>
          <p:nvPr/>
        </p:nvPicPr>
        <p:blipFill>
          <a:blip r:embed="rId2"/>
          <a:stretch/>
        </p:blipFill>
        <p:spPr>
          <a:xfrm>
            <a:off x="4714920" y="3143160"/>
            <a:ext cx="3809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328680" y="920880"/>
            <a:ext cx="8948520" cy="22986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822960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7T07:40:30Z</dcterms:created>
  <dc:creator>Биология</dc:creator>
  <dc:description/>
  <dc:language>en-US</dc:language>
  <cp:lastModifiedBy>сош3</cp:lastModifiedBy>
  <dcterms:modified xsi:type="dcterms:W3CDTF">2012-12-18T06:05:47Z</dcterms:modified>
  <cp:revision>2</cp:revision>
  <dc:subject/>
  <dc:title>Слайд 1</dc:title>
</cp:coreProperties>
</file>